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A71-8875-4776-8675-39B6BDF6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206-4BF5-48E8-87F0-8C66B14D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8D8-07FB-440B-867B-4F99E8CC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0FB-FB29-420A-883C-3D09AEFF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3AF-8EC5-487D-B782-6A14682B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9DF-5340-4ADF-9FFD-444E2A8F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3B1-3768-45D2-ACD0-51851645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0B9-BDAF-4FC5-8845-1836BEAA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95F-A0DE-4313-B6AE-673364FD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B49-58CA-489C-9F1F-B65F305B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96B-1552-4626-833D-425067D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635-59AE-4455-AEF6-D36A483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3167-D437-429A-9FAE-B0F05DC42B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tsavard.com/Work.html" TargetMode="External"/><Relationship Id="rId2" Type="http://schemas.openxmlformats.org/officeDocument/2006/relationships/hyperlink" Target="http://www.catsavard.com/Contact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aelbach.de/o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uman brai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789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cks us whenever it c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entrate on the cross in the middle, after a while you will notice that this moving purple dot will turn green!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43480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ok at the cross a bit longer and you‘ll notice that all dots except the green one will disapp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st things last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Follow the instruction below.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1) St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4 little dots on the middle of the picture for 30 sec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2) then look at a wall near you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3) a bright spot will appea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4) twinkle a few times and you‘ll see a figure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        5) What do you see? Or even WHO do you se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enomenal power of the human mind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br>
              <a:rPr sz="48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dnuolt blveiee taht I cluod aulaclty uesdnatnrd waht I was rdanie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aonmneal pweor of the hmuan mnid! Aoccdrnig to a rscheearch at Cmabrigde Uinervtisy, it deosn't mttaer inwaht oredr the ltteers in a wrod are, the olny iprmoatnt tihng is taht the frist and lsat ltteer be in the rghit pclae. The rset can be a taotl mses and you can sitll raed it wouthit a porbelm. Tihs is bcuseae the huamn mnid deos not raed ervey lteter by istlef, but the wrod as a wlohe. Amzanig huh? Yaeh, and I awlyas thought slpeling was ipmorant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 read this somewhere and I just had to pass it around. I do not know the origins of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something‘s rotating – go home, you need a break! *g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ke a look at the picture? What do you see?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84560" cy="54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3280" y="3315600"/>
            <a:ext cx="43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s shown that young children cannot identify the intimate couple because they do not have prior memory associated with such a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see nine dolph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test to determine if you already have a corrupted mind.  If it is hard for you to find the dolphins within six seconds, your mind is indeed corru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tical Illusions and Visual Phenome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t to confuse your eyes and brain a bit?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es? Then you might want to have a look at the following pics ..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esn‘t move!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 parallel or not?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285920"/>
            <a:ext cx="7058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il or circle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19280" y="736560"/>
            <a:ext cx="61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Honeywell</cp:lastModifiedBy>
  <dcterms:modified xsi:type="dcterms:W3CDTF">2006-04-06T08:32:50Z</dcterms:modified>
  <cp:revision>22</cp:revision>
  <dc:subject/>
  <dc:title>was das Hirn alles kann …</dc:title>
</cp:coreProperties>
</file>