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23A-26E7-4DA7-B9CC-F3C5857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C4E-C5D8-40DE-B7DA-6204B9A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D6F-70DD-448F-9B80-E43C2C96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590-DD58-4F61-A7CB-693D3831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A4F-3BA6-4CFD-8FF3-5EF7F600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CA9-FDBC-49C2-83C7-058650BC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396-0896-4D3C-A824-F431201E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68F-84D7-4111-AF7F-D8F68CC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D02-40D7-4E6F-B7B4-66B210A2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8A2-0C9B-4EF9-A598-B638ECA3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5A6-4A94-4CE5-BF61-F5307F75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C40-010F-481F-8B05-710BBDA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2260-79AE-429A-B9ED-FB216FDFE6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tsavard.com/Work.html" TargetMode="External"/><Relationship Id="rId2" Type="http://schemas.openxmlformats.org/officeDocument/2006/relationships/hyperlink" Target="http://www.catsavard.com/Contact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aelbach.de/o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uman brai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789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cks us whenever it c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entrate on the cross in the middle, after a while you will notice that this moving purple dot will turn green!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43480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ok at the cross a bit longer and you‘ll notice that all dots except the green one will disapp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st things last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Follow the instruction below.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1) St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4 little dots on the middle of the picture for 30 sec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2) then look at a wall near you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3) a bright spot will appea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4) twinkle a few times and you‘ll see a figur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5) What do you see? Or even WHO do you se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enomenal power of the human mind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br>
              <a:rPr sz="48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dnuolt blveiee taht I cluod aulaclty uesdnatnrd waht I was rdanie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aonmneal pweor of the hmuan mnid! Aoccdrnig to a rscheearch at Cmabrigde Uinervtisy, it deosn't mttaer inwaht oredr the ltteers in a wrod are, the olny iprmoatnt tihng is taht the frist and lsat ltteer be in the rghit pclae. The rset can be a taotl mses and you can sitll raed it wouthit a porbelm. Tihs is bcuseae the huamn mnid deos not raed ervey lteter by istlef, but the wrod as a wlohe. Amzanig huh? Yaeh, and I awlyas thought slpeling was ipmorant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 read this somewhere and I just had to pass it around. I do not know the origins of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something‘s rotating – go home, you need a break! *g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ke a look at the picture? What do you see?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3280" y="3315600"/>
            <a:ext cx="43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s shown that young children cannot identify the intimate couple because they do not have prior memory associated with such a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see nine dolph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test to determine if you already have a corrupted mind.  If it is hard for you to find the dolphins within six seconds, your mind is indeed corru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tical Illusions and Visual Phenome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t to confuse your eyes and brain a bit?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es? Then you might want to have a look at the following pics ..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esn‘t move!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 parallel or not?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il or circle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19280" y="73656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Honeywell</cp:lastModifiedBy>
  <dcterms:modified xsi:type="dcterms:W3CDTF">2006-04-06T08:32:50Z</dcterms:modified>
  <cp:revision>22</cp:revision>
  <dc:subject/>
  <dc:title>was das Hirn alles kann …</dc:title>
</cp:coreProperties>
</file>